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D7E-B25E-4F03-BDD9-13D6EDF2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5AF-A894-465D-B7A6-C07AACD7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1A4-20EC-4FC5-8704-4F7606D1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BF4-8C0A-48FA-91C6-969BE58C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1FF-1B97-4B29-9F49-D84C1F2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3F7-19C6-4784-88A1-FBEA34F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0A8-47AC-487D-9361-BA5F38C0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0E8-7079-4AA7-83F0-E933DBB6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0EE-24E1-4989-993F-5403D59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9AF-2130-447A-BB18-0CC1E18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827-6D04-4919-ABBF-4D472081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7A2-CECA-4B42-9C2A-45EB0EC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6F8-D52D-47DD-A5A9-7F15B515E6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该文件是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安全文档，请使用支持安全文档格式的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客户端打开，若使用“停止保护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功能进行编辑，将破坏文档内容，请谨慎操作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/>
  <dc:description/>
  <dc:language>en-US</dc:language>
  <cp:lastModifiedBy/>
  <dcterms:modified xsi:type="dcterms:W3CDTF">2016-05-21T03:15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